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5FE-9630-435F-90E6-8607C043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2441-7049-4E49-AA2A-77813803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F881-351A-4776-89C4-F76A0EFE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D2D0-50A7-427B-95FB-9798FAC0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ABD-ECA6-47F7-B263-63D6C353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201-99D6-4A17-A46C-0F7EA776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8E0-7B4B-465F-BF7D-6F279745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FC4-E063-4D43-97BA-D48098FB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E4BB-192E-4D45-9EF8-6775FD56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DF82-AFE4-49F7-B5AB-27376000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2AA-CC49-4C32-8F8D-77C731C3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161-7C93-46CD-B363-E748B293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AB6A-021B-440F-AC12-C0BD83DD518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62784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.Серов  «Девочка  с  персикам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5" descr="картина девочка с персиками"/>
          <p:cNvPicPr/>
          <p:nvPr/>
        </p:nvPicPr>
        <p:blipFill>
          <a:blip r:embed="rId1"/>
          <a:stretch/>
        </p:blipFill>
        <p:spPr>
          <a:xfrm>
            <a:off x="1692360" y="189000"/>
            <a:ext cx="563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616536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.Коровин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«Роз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5" descr="Розы"/>
          <p:cNvPicPr/>
          <p:nvPr/>
        </p:nvPicPr>
        <p:blipFill>
          <a:blip r:embed="rId1"/>
          <a:stretch/>
        </p:blipFill>
        <p:spPr>
          <a:xfrm>
            <a:off x="2268360" y="189000"/>
            <a:ext cx="453096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6092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Крамской  «Букет  цветов. Флокс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5" descr="букет цветов"/>
          <p:cNvPicPr/>
          <p:nvPr/>
        </p:nvPicPr>
        <p:blipFill>
          <a:blip r:embed="rId1"/>
          <a:stretch/>
        </p:blipFill>
        <p:spPr>
          <a:xfrm>
            <a:off x="1835280" y="189000"/>
            <a:ext cx="52988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ahoma"/>
              </a:rPr>
              <a:t>А  теперь  нарисуй  то, что  тебе  кажется  прекрасны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1676160"/>
            <a:ext cx="8893080" cy="29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ahoma"/>
              </a:rPr>
              <a:t>Прекрасное  в  жизни  и  произведениях  искусств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Человеку  всегда  хотелось  запечатлеть  прекрасное,  то,  что  удивляло  и радовало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совать  люди  научились  еще  в  глубокой  древ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5" descr="image001"/>
          <p:cNvPicPr/>
          <p:nvPr/>
        </p:nvPicPr>
        <p:blipFill>
          <a:blip r:embed="rId1"/>
          <a:stretch/>
        </p:blipFill>
        <p:spPr>
          <a:xfrm>
            <a:off x="250920" y="2565360"/>
            <a:ext cx="2952720" cy="2136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0080-19"/>
          <p:cNvPicPr/>
          <p:nvPr/>
        </p:nvPicPr>
        <p:blipFill>
          <a:blip r:embed="rId2"/>
          <a:stretch/>
        </p:blipFill>
        <p:spPr>
          <a:xfrm>
            <a:off x="3059280" y="3429000"/>
            <a:ext cx="3274920" cy="213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Наскальная живопись бушменов"/>
          <p:cNvPicPr/>
          <p:nvPr/>
        </p:nvPicPr>
        <p:blipFill>
          <a:blip r:embed="rId3"/>
          <a:stretch/>
        </p:blipFill>
        <p:spPr>
          <a:xfrm>
            <a:off x="6156360" y="4365720"/>
            <a:ext cx="28083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220"/>
                            </p:stCondLst>
                            <p:childTnLst>
                              <p:par>
                                <p:cTn id="25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72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22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Шли  века.  Некоторые  люди  достигли  высокого  мастерства  в  умении рисовать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616572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Левитан  «Березовая  рощ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Березовая роща"/>
          <p:cNvPicPr/>
          <p:nvPr/>
        </p:nvPicPr>
        <p:blipFill>
          <a:blip r:embed="rId1"/>
          <a:stretch/>
        </p:blipFill>
        <p:spPr>
          <a:xfrm>
            <a:off x="971640" y="1413000"/>
            <a:ext cx="72579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609300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Левитан  «Золотая  осен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5" descr="Золотая осень. 1895 год"/>
          <p:cNvPicPr/>
          <p:nvPr/>
        </p:nvPicPr>
        <p:blipFill>
          <a:blip r:embed="rId1"/>
          <a:stretch/>
        </p:blipFill>
        <p:spPr>
          <a:xfrm>
            <a:off x="684360" y="836640"/>
            <a:ext cx="777528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609300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 Айвазовский «Девятый  вал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5" descr="картина Девятый вал"/>
          <p:cNvPicPr/>
          <p:nvPr/>
        </p:nvPicPr>
        <p:blipFill>
          <a:blip r:embed="rId1"/>
          <a:stretch/>
        </p:blipFill>
        <p:spPr>
          <a:xfrm>
            <a:off x="324000" y="260280"/>
            <a:ext cx="85723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6165360"/>
            <a:ext cx="8229600" cy="4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 Айвазовский «Ночь  в  Венец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5" descr="Ночь в Венеции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Шишкин  «Зим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Зима 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6092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Шишкин  «Рож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Рожь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1:26:10Z</dcterms:created>
  <dc:creator>Наталья</dc:creator>
  <dc:description/>
  <dc:language>en-US</dc:language>
  <cp:lastModifiedBy>Owner</cp:lastModifiedBy>
  <dcterms:modified xsi:type="dcterms:W3CDTF">2011-07-30T19:59:10Z</dcterms:modified>
  <cp:revision>4</cp:revision>
  <dc:subject/>
  <dc:title>Прекрасное  в  жизни  и  произведениях  искусства</dc:title>
</cp:coreProperties>
</file>